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7B2-8673-4EDD-97A0-F510EA82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3A9-2DF9-489F-9019-A9DA2C9B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6E3-8BC3-49BC-AAEF-04862E27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1F7-A29D-4445-BEFD-5FF9D161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72A7-898A-4E9C-BABF-0F781021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AF94-8CB2-457B-87D2-E843B8D4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DD85-7DC9-4132-9506-AFE4345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52D-12F4-457E-B0AD-2503E02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8B31-CC8C-4836-9EC0-79DA1A68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55FD-A363-471B-82A6-9D2E66C3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FA36-58EC-44B0-895E-C294B8FC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B9D-0577-42CF-93C4-1B4BE436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496D-FD36-4FAE-9674-AD40DCD9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918B-18F0-4865-AC2C-D711F749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DDD4-82C9-40CF-BDD3-58D76248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2B1D-BBFB-495D-97C7-BA8F4AD2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F280-D79C-4FE9-A468-F6613A6A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627C-CF4B-46C9-88C7-29412F34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8F4B-8EB0-4C32-A2A5-F042B0A8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38E51-ABEA-4AC5-80C5-C21E3C62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4E5B-FA62-45F6-A0D1-521A62D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8160-8C1C-4236-BFBC-1E71A48F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996-2A86-4FB9-AC37-399CB689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7C92-FD57-41F3-9BF5-67418575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C7B5-ACBB-462D-AF7D-FCA4AB36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45E7-7B8C-4D33-9C93-D47C9E9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6692-298C-4623-9CC0-66BAD85D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2D26-09E8-497F-9CEA-FF55A467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CA762-0507-41E7-A54E-F9B53F16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0A507-2DF2-4B66-B99D-BD211E95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07AA3-14BD-4D65-ACC1-9B339747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CF08-2EC9-4F7E-89BA-FC14A459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F844-96C5-47CD-A380-F96B2AD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774-CDBC-411F-BE19-B01E1ED0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AE29-F694-4BEA-95D4-410F3596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EC45-4BCE-4DE8-B0BF-DB60B925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529B-0CB8-4D08-99CD-19531F8B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7BF45-2D3D-491A-B13B-97D5AF4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9D2C-E968-4DE3-9FCC-3700913C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B5BF-3874-431C-ABF6-E455C2AB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2A16-A847-406D-BA25-8D8C248B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0D2C-E2AD-4B09-A9C1-9722BDB4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6A4B-3628-488E-ADEF-B8EC6DCB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171-2118-45B4-82C5-62C93FA2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AF5-EFE1-46F0-8BE5-B4394E73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34E-6E3D-4481-8CC2-A73B802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BB5-5AB7-435A-9D32-E48DACFC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2CC-726D-4D52-81B1-990A032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C249-0A03-43D0-9436-969CA657EE7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9943-472B-49F4-8989-EB4F06063FCC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37C4-CB0B-40E3-A328-E13ADDBC562E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28B8-0FBB-408E-B058-95C6468B1DB1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PSICHOLOGIJOS </a:t>
            </a:r>
            <a:r>
              <a:rPr b="0" lang="lt-LT" sz="4000" spc="-1" strike="noStrike">
                <a:solidFill>
                  <a:srgbClr val="330033"/>
                </a:solidFill>
                <a:latin typeface="Times New Roman"/>
              </a:rPr>
              <a:t>TYRIMŲ 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METODAI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etap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klausimas,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uojama hipote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rinkimo būdo planavimas – tyrimo technikos ir strategijos pasi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atlik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duomenų su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analiz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vadų dar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technikos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ebė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klausos (žodžiu, ra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TVEJO ANALIZĖ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no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r keli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vej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r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ng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rantant retus atve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astas reprezentat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alizavimo sunk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us darbui ir laik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jo šal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STEBĖJ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rganizuotas, tikslingas tam tikrų reiškinių suvo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etarpišku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 aplin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gali verbaliai išreikšti to, ko reik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nori kalbėt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alimybė atsižvelgti į natūralų kontekst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Išorinio stebėjimo tipai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neįsikišant/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omis sąlygom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įsikiša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ksperimentinis/laboratorinis stebėj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uktūruotas/išprovokuota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ebėjimas dalyvauj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linikini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APKLAUSOS ir jų form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ruktūruotas/laisvas/pusiau struktūruotas pokal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štu/žodž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iri/uždari klausimai, Likert’o tipo ska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Apklausų trūku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noras atsakyti, sąmoningai nuslėp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o pageidaujamumo reišk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flektyvumo st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įtaka praeities įvykių atgamin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usimo nesupra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stav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Y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STAVIMAS (nor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estų rūš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Žini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endrųjų gebėjim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Intelekto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Asmenybės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Projekciniai testai (Rorschachas, HTP, kinetinis šeimos piešinys, papildymo metodikos, spalvų testai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JOS TYRI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sichologijos ša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tyrimo sr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az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Taikomie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ję su psichologijos instrumen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ju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kintamųjų pobūd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ie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Bendrieji tyrimo tiksl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aišk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mat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troliuo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er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Sąvokos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techn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 empirinių duomenų rinkimo būd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vz., testai, ste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jimas, apklau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r k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rimo strate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 bendras tyrimo plan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aprašomoji, koreliacinė ir eksperimentin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konkreti empirinių duomenų rinkimo ir jų registravimo procedūra, tiksliai nurodanti visas tyrimo sąlygas ir atliekamų veiksmų eig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Rorschacho, H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1 ir kt.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Tyrimo strategijo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om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perimentin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ORELIAC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o ryšį tarp dviejų ar daugiau veiksn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urodo pri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ing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igiama korelia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giama korelia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jos koeficie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/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EKSPERIMENT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ekiama nustatyti ir paaiškinti ryšio tarp nepriklausomo ir priklausomo kintamojo pobūd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as gali iškreipti rezultatus?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ankos kompon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bo efek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ai fenomenas, kai žmogaus reakciją į gydym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oveikį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mia ne pats gydymas, o lauki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sperimentatoriaus šališku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nių tyrimų pvz:  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1:26:52Z</dcterms:created>
  <dc:creator>SPPS2</dc:creator>
  <dc:description/>
  <dc:language>en-US</dc:language>
  <cp:lastModifiedBy> </cp:lastModifiedBy>
  <dcterms:modified xsi:type="dcterms:W3CDTF">2007-08-29T12:38:26Z</dcterms:modified>
  <cp:revision>28</cp:revision>
  <dc:subject/>
  <dc:title>PSICHOLOGIJOS METODAI</dc:title>
</cp:coreProperties>
</file>